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7A49-3640-4E9C-B796-AFE10BE02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2031-958B-41F7-8F72-4F83AAF4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E9BA-21D7-4DF6-A71A-8169381BB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FFA9-EB34-429D-8A64-74D53DDB4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1699-47C0-4350-BDE6-A2EBFCC8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2CA6-949B-43C0-8057-26E611ED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5475-77A1-423B-B5E5-98919C58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8060-0047-4F1F-A091-6E31CF10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9115-886A-4F7A-B1DD-37E5CC5D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6161-D100-48F4-882D-EE9D8B82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0188-2A83-4AA7-81E5-2B6396DA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2E34-A775-4A12-A112-23F14C8F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DD2D-AE86-4D1D-93AB-602ECBDCE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8-2 Nature of Liqu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4479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auses liquids (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gases t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o conform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o the shape of their container?  Their ability to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209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key differenc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hough between Liquids and Ga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26668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attraction between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particles of a gas BUT there is attraction between the particles in a liquid, which keep the particles close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39625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e physical propertie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of a liquid are determined by the interaction of the colliding motions of the particles and the attractions among the partic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liquids are also denser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han gases because the forces reduce the amount of space between the part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5238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from a liquid to a gas  =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vapo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1981080"/>
            <a:ext cx="7696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en this conversion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akes place minus the boiling, we call it evapor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y Evap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34290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because the molecule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in the liquid to not have enough kinetic energy to break the tractor beam and esca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426708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o the molecules at th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surface have enough KE to pull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por Pressur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1066680"/>
            <a:ext cx="7543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en a semi filled container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of liquid is sealed, some of the particles at the surface actually vapor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e particles that vaporized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collide with the walls of the container, making vapor press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3962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In a system at constant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vapor pressure, an equillibrium exists between the vapor and the liqui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480060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rate of condensation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same as rate of eva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2971800"/>
            <a:ext cx="65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quid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–evaporates </a:t>
            </a:r>
            <a:r>
              <a:rPr b="0" lang="en-US" sz="2400" spc="-1" strike="noStrike">
                <a:solidFill>
                  <a:srgbClr val="9966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 vap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quid </a:t>
            </a:r>
            <a:r>
              <a:rPr b="0" lang="en-US" sz="2400" spc="-1" strike="noStrike">
                <a:solidFill>
                  <a:srgbClr val="9966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 condensates—vap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por pressure and the affects of temp.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137160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s temp increases,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so does vapor press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? Becaus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he particles have increased 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243828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vapor pressure of a liquid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measured with a manometer (pg. 39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32767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iling Po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37339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en a liquid is heated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o a temp at which the particles throughout have enough KE to vaporize, the liquid bo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45720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echnical definition of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boiling point (bp)is when the vapor pressure of the liquid is just equal to the external pressure on the liqu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boiling point and pressure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2193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bp is when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external and vapor pressure are equal, liquids do not always boil at the same temp.  Altitudes affect because of more or less press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45720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e temp of boiling liquid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does not raise above the bp.  It just boils faster.  The bubbles in the liquid are va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2514600"/>
            <a:ext cx="739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tmos. Pressure i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lower at higher altitudes, bp decr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opposite tru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for lower altitu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3581280"/>
            <a:ext cx="7772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 external pressure,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he bp decre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external pressure,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he bp incre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 BP – boiling point of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 liquid at a pressure of 101.3 kP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16765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normal bp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– 100 deg.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03:44:06Z</dcterms:created>
  <dc:creator>jpak</dc:creator>
  <dc:description/>
  <dc:language>en-US</dc:language>
  <cp:lastModifiedBy>Farwell Area Schools</cp:lastModifiedBy>
  <dcterms:modified xsi:type="dcterms:W3CDTF">2009-03-26T17:50:23Z</dcterms:modified>
  <cp:revision>10</cp:revision>
  <dc:subject/>
  <dc:title>Note Guide 8-2 Nature of Liquids</dc:title>
</cp:coreProperties>
</file>